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3E1E-E215-4A7E-8B5E-47F93776E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DC6E-CE11-4148-9B81-E4F61E47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AB66-5792-4C06-833C-B2A25FA3F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2DD0-0B5B-44E4-93F9-DD7DE746D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B58C-9ACD-4E4F-B0A3-4EADDFFB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5CBC-FD89-4A4E-A33F-DED05FDA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318A-2282-42B5-BD1A-1E6261BD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68F1-D594-47C2-83D9-3DE7AA7E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2F13-0E60-4AA6-AA67-50821BB8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4584-1F4A-46F6-AD0B-503A5C95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418D-08A7-49B8-9C58-70438281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E6AD-D8B0-4719-9268-B7257CD5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352B-AAE0-4C9D-88EC-951156A6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2622-5C99-46C8-B10D-AA257B58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8890-EEFE-4611-AB6B-4B1589C2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12F5-3B55-42B2-B1AD-8BDE83250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C830-B54A-4AF2-9E41-D72BC00B8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CEFC-18C0-4D93-92BB-AAE7A0D5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1C07-A011-4326-8F6C-EFCAD083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29C7-B51E-4A4E-9BA1-7D5CDEBA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7956-F62D-41CD-BA30-583C8B4F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A2E0-41A4-44BC-9038-D77716CC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3A86-EC4F-4934-923E-ACADC566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C5EC-8A11-47F5-AFFD-C0D62666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F1C3-C7FB-4265-B9E4-47801814B240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14440" y="6362640"/>
            <a:ext cx="71532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                                                                                          </a:t>
            </a:r>
            <a:fld id="{B463C349-ACCF-4FF7-9D59-71A3757B48AB}" type="slidenum"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:\PO BA  RD\_Arbeitsanw_Prozesse\_RD_BA_Prozesse\Presentations_RD_BA_Abteilung \ Allgemein RD BA \ BA Function RD und TPM_0605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C551-0551-41FA-9ABF-1F35B2BB019A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1520" y="6362640"/>
            <a:ext cx="71532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5/12/02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:\PO BA  RD\_Arbeitsanweisungen_Prozesse_Handbücher\_RD_BA_Prozesse\Presentations_RD_BA_Abteilung \ BA Function Product Develop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2395440"/>
            <a:ext cx="842472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BenQ Mo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BA Function – Research &amp;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       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Technical Project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4591080"/>
            <a:ext cx="53276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Klaus Wing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BMG RD 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24.05.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33360" y="1308240"/>
            <a:ext cx="8486640" cy="3921120"/>
          </a:xfrm>
          <a:prstGeom prst="rect">
            <a:avLst/>
          </a:prstGeom>
          <a:solidFill>
            <a:srgbClr val="ccffff">
              <a:alpha val="2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01992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a0e66"/>
                </a:solidFill>
                <a:latin typeface="Arial"/>
              </a:rPr>
              <a:t>4.    R&amp;D Key Figures…….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160" y="1688760"/>
            <a:ext cx="8359560" cy="34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1160" indent="-2811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10 R&amp;D Sit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811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- Europe:  Munich, Kamp-Lintfort, Aalborg (untill 31.05.06), Wroclaw, Manau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811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- Asia:       Taipei, Hsinchu, Beijing, Suzhou, India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81160" indent="-2811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Ca. 2.000 R&amp;D Employees 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81160" indent="-2811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R&amp;D Budget:   ca. 350 Mill. Euro (thereof ca. for 100‘ external orders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81160" indent="-2811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Investment:      ca. 20 Mill. Euro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81160" indent="-2811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Administration of  &gt; 2.000 external orders per year incl. handling of invoices and accruals 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81160" indent="-2811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R&amp;D projects Europe:  60 current products, 100 predevelopments, 100 components, 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811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                                              </a:t>
            </a: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20 Basics 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81160" indent="-2811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R&amp;D projects Asia tbd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811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5720" y="549000"/>
            <a:ext cx="701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a0e66"/>
                </a:solidFill>
                <a:latin typeface="Times New Roman"/>
              </a:rPr>
              <a:t>Outline</a:t>
            </a:r>
            <a:br>
              <a:rPr sz="3600"/>
            </a:br>
            <a:r>
              <a:rPr b="0" lang="zh-TW" sz="2400" spc="-1" strike="noStrike">
                <a:solidFill>
                  <a:srgbClr val="3a0e66"/>
                </a:solidFill>
                <a:latin typeface="Times New Roman"/>
              </a:rPr>
              <a:t>Department: BenQ Mobile RD BA / TPM BA</a:t>
            </a:r>
            <a:r>
              <a:rPr b="1" lang="zh-TW" sz="2400" spc="-1" strike="noStrike">
                <a:solidFill>
                  <a:srgbClr val="3a0e66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zh-TW" sz="2400" spc="-1" strike="noStrike">
                <a:solidFill>
                  <a:srgbClr val="3a0e66"/>
                </a:solidFill>
                <a:latin typeface="Times New Roman"/>
              </a:rPr>
              <a:t>1. Introduction and Organizational Embedding </a:t>
            </a:r>
            <a:br>
              <a:rPr sz="2400"/>
            </a:br>
            <a:r>
              <a:rPr b="0" lang="zh-TW" sz="2400" spc="-1" strike="noStrike">
                <a:solidFill>
                  <a:srgbClr val="3a0e66"/>
                </a:solidFill>
                <a:latin typeface="Times New Roman"/>
              </a:rPr>
              <a:t>2. Task Description &amp; Responsibilities</a:t>
            </a:r>
            <a:br>
              <a:rPr sz="2400"/>
            </a:br>
            <a:r>
              <a:rPr b="0" lang="zh-TW" sz="2400" spc="-1" strike="noStrike">
                <a:solidFill>
                  <a:srgbClr val="3a0e66"/>
                </a:solidFill>
                <a:latin typeface="Times New Roman"/>
              </a:rPr>
              <a:t>3. Specific Challenges in CY2006</a:t>
            </a:r>
            <a:br>
              <a:rPr sz="2400"/>
            </a:br>
            <a:r>
              <a:rPr b="0" lang="zh-TW" sz="2400" spc="-1" strike="noStrike">
                <a:solidFill>
                  <a:srgbClr val="3a0e66"/>
                </a:solidFill>
                <a:latin typeface="Times New Roman"/>
              </a:rPr>
              <a:t>4. Department Key Data CY2006</a:t>
            </a:r>
            <a:br>
              <a:rPr sz="2800"/>
            </a:b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376440" y="981000"/>
            <a:ext cx="373572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8000" y="981000"/>
            <a:ext cx="321480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09160"/>
            <a:ext cx="8583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a0e66"/>
                </a:solidFill>
                <a:latin typeface="Arial"/>
              </a:rPr>
              <a:t>Organizational Embedding (I/III)</a:t>
            </a:r>
            <a:br>
              <a:rPr sz="2400"/>
            </a:br>
            <a:r>
              <a:rPr b="0" lang="en-US" sz="20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Arial"/>
              </a:rPr>
              <a:t>BMG RD BA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1700280"/>
            <a:ext cx="1470240" cy="33400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21400" y="1941480"/>
            <a:ext cx="1249560" cy="52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Latin Americas B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(LAM B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Christian Hergenhan </a:t>
            </a:r>
            <a:r>
              <a:rPr b="0" lang="en-US" sz="900" spc="-1" strike="noStrike" baseline="50000">
                <a:solidFill>
                  <a:srgbClr val="3a0e66"/>
                </a:solidFill>
                <a:latin typeface="Arial"/>
              </a:rPr>
              <a:t>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421400" y="2552760"/>
            <a:ext cx="125100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Eastern Europe B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(EE BA)</a:t>
            </a:r>
            <a:br>
              <a:rPr sz="800"/>
            </a:b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Gerd Schwand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421400" y="3181320"/>
            <a:ext cx="125100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Western Europe B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(WE B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Lars Wink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21400" y="3792600"/>
            <a:ext cx="1251000" cy="52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APAC B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Marie Yeo </a:t>
            </a:r>
            <a:r>
              <a:rPr b="0" lang="en-US" sz="900" spc="-1" strike="noStrike" baseline="50000">
                <a:solidFill>
                  <a:srgbClr val="3a0e66"/>
                </a:solidFill>
                <a:latin typeface="Arial"/>
              </a:rPr>
              <a:t>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35480" y="5200560"/>
            <a:ext cx="1108080" cy="5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     </a:t>
            </a: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Export Control /</a:t>
            </a: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 </a:t>
            </a:r>
            <a:r>
              <a:rPr b="0" lang="en-US" sz="900" spc="-1" strike="noStrike" baseline="50000">
                <a:solidFill>
                  <a:srgbClr val="3a0e66"/>
                </a:solidFill>
                <a:latin typeface="Arial"/>
                <a:ea typeface="文鼎中黑"/>
              </a:rPr>
              <a:t>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Customs Offic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Thomas Dietri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25800" y="2060640"/>
            <a:ext cx="1247760" cy="52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Sales Oper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Controlling (SO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Matthew Goodm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36960" y="2685960"/>
            <a:ext cx="124956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Pricing Office (PO)</a:t>
            </a:r>
            <a:br>
              <a:rPr sz="800"/>
            </a:b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Daniela Stomberg </a:t>
            </a:r>
            <a:r>
              <a:rPr b="0" lang="en-US" sz="900" spc="-1" strike="noStrike" baseline="50000">
                <a:solidFill>
                  <a:srgbClr val="3a0e66"/>
                </a:solidFill>
                <a:latin typeface="Arial"/>
                <a:ea typeface="文鼎中黑"/>
              </a:rPr>
              <a:t>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25800" y="3332160"/>
            <a:ext cx="1249560" cy="52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Category Mgmt. B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(CM B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Dr. Roland Schmid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25800" y="3957480"/>
            <a:ext cx="1249560" cy="5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Customer Care B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3a0e66"/>
                </a:solidFill>
                <a:latin typeface="Arial"/>
              </a:rPr>
              <a:t>(CC B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Axel von Cam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5202360"/>
            <a:ext cx="1108080" cy="52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Compliance </a:t>
            </a:r>
            <a:br>
              <a:rPr sz="800"/>
            </a:b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Officer </a:t>
            </a:r>
            <a:r>
              <a:rPr b="0" lang="en-US" sz="900" spc="-1" strike="noStrike" baseline="50000">
                <a:solidFill>
                  <a:srgbClr val="3a0e66"/>
                </a:solidFill>
                <a:latin typeface="Arial"/>
                <a:ea typeface="文鼎中黑"/>
              </a:rPr>
              <a:t>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Dr. Jörg Wilhel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88120" y="2060640"/>
            <a:ext cx="1247760" cy="52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Planning &amp; Contro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(P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Daniela Meix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78400" y="2700360"/>
            <a:ext cx="124956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IT</a:t>
            </a:r>
            <a:br>
              <a:rPr sz="800"/>
            </a:b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Jürgen The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86320" y="3327480"/>
            <a:ext cx="1249560" cy="52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Corporate 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(C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Peter Wistok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86320" y="3962520"/>
            <a:ext cx="1249560" cy="52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Aud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(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Alfred Rät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40280" y="5202360"/>
            <a:ext cx="1108080" cy="52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Data Security </a:t>
            </a:r>
            <a:br>
              <a:rPr sz="800"/>
            </a:b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Officer</a:t>
            </a:r>
            <a:r>
              <a:rPr b="0" lang="en-US" sz="900" spc="-1" strike="noStrike" baseline="50000">
                <a:solidFill>
                  <a:srgbClr val="3a0e66"/>
                </a:solidFill>
                <a:latin typeface="Arial"/>
                <a:ea typeface="文鼎中黑"/>
              </a:rPr>
              <a:t>6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Ralph Har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33920" y="1038240"/>
            <a:ext cx="1247760" cy="52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a0e66"/>
                </a:solidFill>
                <a:latin typeface="Arial"/>
              </a:rPr>
              <a:t>Controlling (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"/>
              </a:rPr>
              <a:t>Lydia Somm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7" idx="3"/>
            <a:endCxn id="91" idx="0"/>
          </p:cNvCxnSpPr>
          <p:nvPr/>
        </p:nvCxnSpPr>
        <p:spPr>
          <a:xfrm>
            <a:off x="5891040" y="1300320"/>
            <a:ext cx="2153520" cy="390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stCxn id="97" idx="1"/>
            <a:endCxn id="98" idx="1"/>
          </p:cNvCxnSpPr>
          <p:nvPr/>
        </p:nvCxnSpPr>
        <p:spPr>
          <a:xfrm flipH="1" flipV="1" rot="10800000">
            <a:off x="3924720" y="2322000"/>
            <a:ext cx="11880" cy="627840"/>
          </a:xfrm>
          <a:prstGeom prst="bentConnector3">
            <a:avLst>
              <a:gd name="adj1" fmla="val -20562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" name=""/>
          <p:cNvCxnSpPr>
            <a:stCxn id="98" idx="1"/>
            <a:endCxn id="99" idx="1"/>
          </p:cNvCxnSpPr>
          <p:nvPr/>
        </p:nvCxnSpPr>
        <p:spPr>
          <a:xfrm flipV="1" rot="10800000">
            <a:off x="3925080" y="2948400"/>
            <a:ext cx="11880" cy="648360"/>
          </a:xfrm>
          <a:prstGeom prst="bentConnector3">
            <a:avLst>
              <a:gd name="adj1" fmla="val 21562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99" idx="1"/>
            <a:endCxn id="100" idx="1"/>
          </p:cNvCxnSpPr>
          <p:nvPr/>
        </p:nvCxnSpPr>
        <p:spPr>
          <a:xfrm flipH="1" flipV="1" rot="10800000">
            <a:off x="3924720" y="3596040"/>
            <a:ext cx="2520" cy="6246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103" idx="3"/>
            <a:endCxn id="104" idx="3"/>
          </p:cNvCxnSpPr>
          <p:nvPr/>
        </p:nvCxnSpPr>
        <p:spPr>
          <a:xfrm>
            <a:off x="6627960" y="2963880"/>
            <a:ext cx="8640" cy="629280"/>
          </a:xfrm>
          <a:prstGeom prst="bentConnector3">
            <a:avLst>
              <a:gd name="adj1" fmla="val 29782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" name=""/>
          <p:cNvCxnSpPr>
            <a:stCxn id="104" idx="3"/>
            <a:endCxn id="105" idx="3"/>
          </p:cNvCxnSpPr>
          <p:nvPr/>
        </p:nvCxnSpPr>
        <p:spPr>
          <a:xfrm>
            <a:off x="6635880" y="3592440"/>
            <a:ext cx="2160" cy="63432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" name=""/>
          <p:cNvCxnSpPr>
            <a:stCxn id="103" idx="3"/>
            <a:endCxn id="102" idx="3"/>
          </p:cNvCxnSpPr>
          <p:nvPr/>
        </p:nvCxnSpPr>
        <p:spPr>
          <a:xfrm flipV="1">
            <a:off x="6627960" y="2322000"/>
            <a:ext cx="8640" cy="642240"/>
          </a:xfrm>
          <a:prstGeom prst="bentConnector3">
            <a:avLst>
              <a:gd name="adj1" fmla="val 297826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7424640" y="4416480"/>
            <a:ext cx="1249560" cy="52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China B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Guido Uhle </a:t>
            </a:r>
            <a:r>
              <a:rPr b="0" lang="en-US" sz="900" spc="-1" strike="noStrike" baseline="50000">
                <a:solidFill>
                  <a:srgbClr val="3a0e66"/>
                </a:solidFill>
                <a:latin typeface="Arial"/>
              </a:rPr>
              <a:t>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9680" y="1681200"/>
            <a:ext cx="3146400" cy="3260520"/>
          </a:xfrm>
          <a:prstGeom prst="rect">
            <a:avLst/>
          </a:prstGeom>
          <a:solidFill>
            <a:srgbClr val="c0c0c0">
              <a:alpha val="40000"/>
            </a:srgbClr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  <a:ea typeface="文鼎中黑"/>
              </a:rPr>
              <a:t>Product House B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  <a:ea typeface="文鼎中黑"/>
              </a:rPr>
              <a:t>Lydia Som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1360" y="2081160"/>
            <a:ext cx="3075120" cy="617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  <a:ea typeface="文鼎中黑"/>
              </a:rPr>
              <a:t>Research &amp; Development BA and </a:t>
            </a: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Technical Product Mgmt. B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(RD B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Klaus Wingens </a:t>
            </a: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3160" y="2793960"/>
            <a:ext cx="307476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Supply Chain Management and Strategic Procurement B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(SCM/SP B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Ingrid Jägering </a:t>
            </a:r>
            <a:r>
              <a:rPr b="0" lang="en-US" sz="900" spc="-1" strike="noStrike" baseline="50000">
                <a:solidFill>
                  <a:srgbClr val="3a0e66"/>
                </a:solidFill>
                <a:latin typeface="Arial"/>
                <a:ea typeface="文鼎中黑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3160" y="3513240"/>
            <a:ext cx="307476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Product House BA As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(PH BA, As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Johann Gött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3760" y="946080"/>
            <a:ext cx="129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Product House B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41160" y="952560"/>
            <a:ext cx="121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Global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8000" y="5877000"/>
            <a:ext cx="3024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a0e66"/>
                </a:solidFill>
                <a:latin typeface="Arial"/>
              </a:rPr>
              <a:t>1) located in Sao Paolo, Brazi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a0e66"/>
                </a:solidFill>
                <a:latin typeface="Arial"/>
              </a:rPr>
              <a:t>2) located in Taipei, assigned to Product House BA Asia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a0e66"/>
                </a:solidFill>
                <a:latin typeface="Arial"/>
              </a:rPr>
              <a:t>3) located in Shanghai, assigned to Product House BA Asia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88360" y="404640"/>
            <a:ext cx="17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effective April 1st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43200" y="957240"/>
            <a:ext cx="174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Regional Management B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64360" y="981000"/>
            <a:ext cx="187164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56000" y="5877000"/>
            <a:ext cx="3024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a0e66"/>
                </a:solidFill>
                <a:latin typeface="Arial"/>
              </a:rPr>
              <a:t>4) as of 1st May 2006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a0e66"/>
                </a:solidFill>
                <a:latin typeface="Arial"/>
              </a:rPr>
              <a:t>5) subordinated to Corporate Services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a0e66"/>
                </a:solidFill>
                <a:latin typeface="Arial"/>
              </a:rPr>
              <a:t>6) subordinated</a:t>
            </a:r>
            <a:r>
              <a:rPr b="0" lang="en-US" sz="700" spc="-1" strike="noStrike">
                <a:solidFill>
                  <a:srgbClr val="3a0e66"/>
                </a:solidFill>
                <a:latin typeface="Arial"/>
                <a:ea typeface="文鼎中黑"/>
              </a:rPr>
              <a:t> to Audit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27600" y="4591080"/>
            <a:ext cx="1249200" cy="5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3a0e66"/>
                </a:solidFill>
                <a:latin typeface="Arial"/>
              </a:rPr>
              <a:t>Quality Management B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3a0e66"/>
                </a:solidFill>
                <a:latin typeface="Arial"/>
              </a:rPr>
              <a:t>(QM B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Carlos Schm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73720" y="4581360"/>
            <a:ext cx="124920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BA &amp; Fina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Program Manager</a:t>
            </a:r>
            <a:br>
              <a:rPr sz="800"/>
            </a:b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Patricia Höglmei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05" idx="3"/>
            <a:endCxn id="128" idx="3"/>
          </p:cNvCxnSpPr>
          <p:nvPr/>
        </p:nvCxnSpPr>
        <p:spPr>
          <a:xfrm flipH="1">
            <a:off x="6622560" y="4225680"/>
            <a:ext cx="13680" cy="619560"/>
          </a:xfrm>
          <a:prstGeom prst="bentConnector3">
            <a:avLst>
              <a:gd name="adj1" fmla="val -18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" name=""/>
          <p:cNvCxnSpPr>
            <a:stCxn id="100" idx="1"/>
            <a:endCxn id="127" idx="1"/>
          </p:cNvCxnSpPr>
          <p:nvPr/>
        </p:nvCxnSpPr>
        <p:spPr>
          <a:xfrm flipH="1" flipV="1" rot="10800000">
            <a:off x="3924720" y="4220640"/>
            <a:ext cx="2520" cy="634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" name=""/>
          <p:cNvCxnSpPr>
            <a:stCxn id="116" idx="0"/>
            <a:endCxn id="107" idx="1"/>
          </p:cNvCxnSpPr>
          <p:nvPr/>
        </p:nvCxnSpPr>
        <p:spPr>
          <a:xfrm flipH="1" flipV="1" rot="5400000">
            <a:off x="2982960" y="29520"/>
            <a:ext cx="371880" cy="2912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" name=""/>
          <p:cNvCxnSpPr>
            <a:stCxn id="107" idx="2"/>
            <a:endCxn id="97" idx="1"/>
          </p:cNvCxnSpPr>
          <p:nvPr/>
        </p:nvCxnSpPr>
        <p:spPr>
          <a:xfrm rot="5400000">
            <a:off x="4215960" y="1280880"/>
            <a:ext cx="751320" cy="1332720"/>
          </a:xfrm>
          <a:prstGeom prst="bentConnector4">
            <a:avLst>
              <a:gd name="adj1" fmla="val 31879"/>
              <a:gd name="adj2" fmla="val 11715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" name=""/>
          <p:cNvCxnSpPr>
            <a:stCxn id="107" idx="2"/>
            <a:endCxn id="102" idx="3"/>
          </p:cNvCxnSpPr>
          <p:nvPr/>
        </p:nvCxnSpPr>
        <p:spPr>
          <a:xfrm flipH="1" rot="16200000">
            <a:off x="5571360" y="1257480"/>
            <a:ext cx="751320" cy="1378800"/>
          </a:xfrm>
          <a:prstGeom prst="bentConnector4">
            <a:avLst>
              <a:gd name="adj1" fmla="val 31879"/>
              <a:gd name="adj2" fmla="val 11658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5958360" y="1353960"/>
            <a:ext cx="1040400" cy="4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3a0e66"/>
                </a:solidFill>
                <a:latin typeface="Arial"/>
                <a:ea typeface="文鼎中黑"/>
              </a:rPr>
              <a:t>Executiv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3a0e66"/>
                </a:solidFill>
                <a:latin typeface="Arial"/>
                <a:ea typeface="文鼎中黑"/>
              </a:rPr>
              <a:t>Project Manageme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3a0e66"/>
                </a:solidFill>
                <a:latin typeface="Arial"/>
                <a:ea typeface="文鼎中黑"/>
              </a:rPr>
              <a:t>John Longhin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07" idx="3"/>
            <a:endCxn id="134" idx="0"/>
          </p:cNvCxnSpPr>
          <p:nvPr/>
        </p:nvCxnSpPr>
        <p:spPr>
          <a:xfrm>
            <a:off x="5891040" y="1299960"/>
            <a:ext cx="588240" cy="54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9600" y="11592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09480" indent="-609480">
              <a:lnSpc>
                <a:spcPct val="100000"/>
              </a:lnSpc>
              <a:buClr>
                <a:srgbClr val="3a0e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a0e66"/>
                </a:solidFill>
                <a:latin typeface="Arial"/>
                <a:ea typeface="文鼎中黑"/>
              </a:rPr>
              <a:t>Organizational Embedding (II/I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744480"/>
            <a:ext cx="878544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730760" y="1125360"/>
            <a:ext cx="4176720" cy="489600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39640" y="1125360"/>
            <a:ext cx="8364600" cy="4896000"/>
            <a:chOff x="539640" y="1125360"/>
            <a:chExt cx="8364600" cy="4896000"/>
          </a:xfrm>
        </p:grpSpPr>
        <p:sp>
          <p:nvSpPr>
            <p:cNvPr id="140" name=""/>
            <p:cNvSpPr/>
            <p:nvPr/>
          </p:nvSpPr>
          <p:spPr>
            <a:xfrm>
              <a:off x="554040" y="1125360"/>
              <a:ext cx="4176720" cy="4896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6200000">
              <a:off x="-1678320" y="3343320"/>
              <a:ext cx="4896000" cy="459720"/>
            </a:xfrm>
            <a:prstGeom prst="rect">
              <a:avLst/>
            </a:prstGeom>
            <a:solidFill>
              <a:srgbClr val="00ccff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3a0e66"/>
                  </a:solidFill>
                  <a:latin typeface="Arial"/>
                  <a:ea typeface="文鼎中黑"/>
                </a:rPr>
                <a:t>Suppli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49440" y="1916280"/>
              <a:ext cx="5975280" cy="3311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ff">
                    <a:alpha val="65098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47640" y="4878360"/>
              <a:ext cx="5977080" cy="337320"/>
            </a:xfrm>
            <a:prstGeom prst="rect">
              <a:avLst/>
            </a:prstGeom>
            <a:solidFill>
              <a:srgbClr val="c0c0c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a0e66"/>
                  </a:solidFill>
                  <a:latin typeface="Arial"/>
                  <a:ea typeface="文鼎中黑"/>
                </a:rPr>
                <a:t>BMG internal interfacing depart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6200000">
              <a:off x="6195600" y="3343320"/>
              <a:ext cx="4896000" cy="459720"/>
            </a:xfrm>
            <a:prstGeom prst="rect">
              <a:avLst/>
            </a:prstGeom>
            <a:solidFill>
              <a:srgbClr val="800080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3a0e66"/>
                  </a:solidFill>
                  <a:latin typeface="Arial"/>
                  <a:ea typeface="文鼎中黑"/>
                </a:rPr>
                <a:t>Custom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1440" y="1125360"/>
              <a:ext cx="8362800" cy="337320"/>
            </a:xfrm>
            <a:prstGeom prst="rect">
              <a:avLst/>
            </a:prstGeom>
            <a:solidFill>
              <a:srgbClr val="c0c0c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a0e66"/>
                  </a:solidFill>
                  <a:latin typeface="Arial"/>
                  <a:ea typeface="文鼎中黑"/>
                </a:rPr>
                <a:t>BMG external interfacing un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09600" y="23796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09480" indent="-609480">
              <a:lnSpc>
                <a:spcPct val="100000"/>
              </a:lnSpc>
              <a:buClr>
                <a:srgbClr val="3a0e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a0e66"/>
                </a:solidFill>
                <a:latin typeface="Arial"/>
                <a:ea typeface="文鼎中黑"/>
              </a:rPr>
              <a:t>Organizational Embedding (III/III)</a:t>
            </a:r>
            <a:br>
              <a:rPr sz="2400"/>
            </a:br>
            <a:r>
              <a:rPr b="0" lang="zh-TW" sz="2000" spc="-1" strike="noStrike">
                <a:solidFill>
                  <a:srgbClr val="3a0e66"/>
                </a:solidFill>
                <a:latin typeface="Arial"/>
                <a:ea typeface="文鼎中黑"/>
              </a:rPr>
              <a:t>BMG RD BA – Internal / External Interfa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92360" y="3063960"/>
            <a:ext cx="1150920" cy="72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68360" y="4002120"/>
            <a:ext cx="1151280" cy="72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68360" y="2130480"/>
            <a:ext cx="1151280" cy="72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BA 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71640" y="2130480"/>
            <a:ext cx="1150920" cy="72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H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41800" y="3065400"/>
            <a:ext cx="1150920" cy="7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RD B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42160" y="2133720"/>
            <a:ext cx="1150920" cy="72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CTM B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89800" y="3070080"/>
            <a:ext cx="1150920" cy="7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PC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71640" y="4000680"/>
            <a:ext cx="1150920" cy="72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CM BA I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69080" y="3933720"/>
            <a:ext cx="1150920" cy="7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Pro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165800" y="3933720"/>
            <a:ext cx="1151280" cy="7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68720" y="4292640"/>
            <a:ext cx="64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59280" y="4292640"/>
            <a:ext cx="64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T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492360" y="3789360"/>
            <a:ext cx="50328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2360" y="285264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364000" y="3787920"/>
            <a:ext cx="43200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580000" y="3429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364000" y="278136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858920" y="1773360"/>
            <a:ext cx="136836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43640" y="1413000"/>
            <a:ext cx="144144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77080" y="160020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KP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1844640"/>
            <a:ext cx="93672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79640" y="1413000"/>
            <a:ext cx="144144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24000" y="16002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External suppli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203640" y="3429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27640" y="38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76720" y="38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24000" y="260280"/>
            <a:ext cx="77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a0e66"/>
                </a:solidFill>
                <a:latin typeface="Arial"/>
                <a:ea typeface="文鼎中黑"/>
              </a:rPr>
              <a:t>2.    Task Description &amp; Responsibilities         (1)</a:t>
            </a:r>
            <a:br>
              <a:rPr sz="2400"/>
            </a:br>
            <a:r>
              <a:rPr b="0" lang="zh-TW" sz="2000" spc="-1" strike="noStrike">
                <a:solidFill>
                  <a:srgbClr val="3a0e66"/>
                </a:solidFill>
                <a:latin typeface="Arial"/>
                <a:ea typeface="文鼎中黑"/>
              </a:rPr>
              <a:t>BMG RD 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1411200"/>
            <a:ext cx="8075520" cy="3313080"/>
          </a:xfrm>
          <a:prstGeom prst="rect">
            <a:avLst/>
          </a:prstGeom>
          <a:solidFill>
            <a:srgbClr val="ccff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esponsibility Financial Controlling  (RD BA 1)</a:t>
            </a:r>
            <a:r>
              <a:rPr b="0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dministration and coordination of all financial issues within all R&amp;D and TPM departments, li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</a:t>
            </a: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arget setting for cost, H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</a:t>
            </a:r>
            <a:r>
              <a:rPr b="1" lang="de-DE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mmercial </a:t>
            </a: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responsibility of all purchase orders (e.g. consultants, inves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</a:t>
            </a:r>
            <a:r>
              <a:rPr b="1" lang="de-DE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a</a:t>
            </a: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lculation of capacities (productive hours) and hourly rates</a:t>
            </a:r>
            <a:r>
              <a:rPr b="0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 Definition of cost center and department stru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</a:t>
            </a: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udgeting, reporting, forecasting and controlling of all financial figures incl. deviation analys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</a:t>
            </a: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within depar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</a:t>
            </a: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Ensure cost flow (e.g. invoices). Financial process administration (e.g. calculation of accru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</a:t>
            </a: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Key User SAP Project System (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24000" y="260280"/>
            <a:ext cx="77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a0e66"/>
                </a:solidFill>
                <a:latin typeface="Arial"/>
                <a:ea typeface="文鼎中黑"/>
              </a:rPr>
              <a:t>2.    Task Description &amp; Responsibilities         (2)</a:t>
            </a:r>
            <a:br>
              <a:rPr sz="2400"/>
            </a:br>
            <a:r>
              <a:rPr b="0" lang="zh-TW" sz="2000" spc="-1" strike="noStrike">
                <a:solidFill>
                  <a:srgbClr val="3a0e66"/>
                </a:solidFill>
                <a:latin typeface="Arial"/>
                <a:ea typeface="文鼎中黑"/>
              </a:rPr>
              <a:t>BMG RD 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1052640"/>
            <a:ext cx="8558280" cy="3600360"/>
          </a:xfrm>
          <a:prstGeom prst="rect">
            <a:avLst/>
          </a:prstGeom>
          <a:solidFill>
            <a:srgbClr val="ccff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esponsibility Project Controlling (Functional Controlling) RD BA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dministration and coordination of all project related issues within R&amp;D and Internal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 Forecasting and budgeting of product projects, predevelopments, components and basic 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 Defining, optimizing and redesigning of processes and value flow (e.g. accounting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</a:t>
            </a: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jects, consultants orders of SCM for R&amp;D projec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 Controlling and Reporting (gap analysis and driving of measures, defining and driving productivity measur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</a:t>
            </a: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for project related costs, transparency in controlling and report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 Administration of Projects within SAP-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 Operational product cost cont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 Product-cost related BA support of Ramp-up Team and Rea 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 BA Support product-specific EOL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 Provisions Management for supplier liabilities/special too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6440" y="4797360"/>
            <a:ext cx="8558280" cy="1224000"/>
          </a:xfrm>
          <a:prstGeom prst="rect">
            <a:avLst/>
          </a:prstGeom>
          <a:solidFill>
            <a:srgbClr val="ccff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Overall Responsibiliti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he Business Administrator is responsible for all financial and commercial aspects within its function (RD and TP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Ensure compliance with internal and external rules and guidelines within the area of functional responsi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50920" y="836640"/>
            <a:ext cx="8642160" cy="540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798012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a0e66"/>
                </a:solidFill>
                <a:latin typeface="Arial"/>
              </a:rPr>
              <a:t>2.    Task Description &amp; Responsibilities         (3)</a:t>
            </a:r>
            <a:br>
              <a:rPr sz="2400"/>
            </a:br>
            <a:r>
              <a:rPr b="1" lang="zh-TW" sz="2000" spc="-1" strike="noStrike">
                <a:solidFill>
                  <a:srgbClr val="3a0e66"/>
                </a:solidFill>
                <a:latin typeface="Arial"/>
              </a:rPr>
              <a:t>         </a:t>
            </a:r>
            <a:r>
              <a:rPr b="0" lang="zh-TW" sz="2000" spc="-1" strike="noStrike">
                <a:solidFill>
                  <a:srgbClr val="3a0e66"/>
                </a:solidFill>
                <a:latin typeface="Arial"/>
              </a:rPr>
              <a:t>BMG RD BA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0" name=""/>
          <p:cNvSpPr/>
          <p:nvPr/>
        </p:nvSpPr>
        <p:spPr>
          <a:xfrm>
            <a:off x="3792600" y="1190520"/>
            <a:ext cx="2303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96880" y="2089080"/>
            <a:ext cx="7733880" cy="3838320"/>
            <a:chOff x="596880" y="2089080"/>
            <a:chExt cx="7733880" cy="3838320"/>
          </a:xfrm>
        </p:grpSpPr>
        <p:sp>
          <p:nvSpPr>
            <p:cNvPr id="182" name=""/>
            <p:cNvSpPr/>
            <p:nvPr/>
          </p:nvSpPr>
          <p:spPr>
            <a:xfrm>
              <a:off x="596880" y="2089080"/>
              <a:ext cx="2984400" cy="569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st (caused by…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76000" y="2089080"/>
              <a:ext cx="3186720" cy="569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st (spend for…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800280" y="2658240"/>
              <a:ext cx="1440" cy="28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42440" y="3014280"/>
              <a:ext cx="3324960" cy="71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254304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st Center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254304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 incl. Investment 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01720" y="3227400"/>
              <a:ext cx="54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1720" y="4649040"/>
              <a:ext cx="54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01720" y="4079880"/>
              <a:ext cx="54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42440" y="3866400"/>
              <a:ext cx="3324960" cy="42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254304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nsultants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25 %)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42440" y="4435920"/>
              <a:ext cx="3324960" cy="63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254304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iscellaneous/Material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00280" y="5501160"/>
              <a:ext cx="54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42440" y="5216760"/>
              <a:ext cx="3324960" cy="71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254304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th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254304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e.g. special licenses, GP allocation etc.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02760" y="3368880"/>
              <a:ext cx="135000" cy="2204280"/>
            </a:xfrm>
            <a:custGeom>
              <a:avLst/>
              <a:gdLst>
                <a:gd name="textAreaLeft" fmla="*/ 0 w 135000"/>
                <a:gd name="textAreaRight" fmla="*/ 48600 w 135000"/>
                <a:gd name="textAreaTop" fmla="*/ 57240 h 2204280"/>
                <a:gd name="textAreaBottom" fmla="*/ 2147040 h 220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66040" y="2658240"/>
              <a:ext cx="0" cy="56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39720" y="3227400"/>
              <a:ext cx="3191040" cy="2487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&amp;D Projec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 Product projects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60 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 Predevelopment / Components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30 %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 Basics, patents, Licenses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10 %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Tooling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5153040" y="5925960"/>
            <a:ext cx="2378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Times New Roman"/>
              </a:rPr>
              <a:t>1) Cost for changes in tooling before M3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8240" y="958680"/>
            <a:ext cx="2735280" cy="576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d52603"/>
                </a:solidFill>
                <a:latin typeface="Times New Roman"/>
              </a:rPr>
              <a:t>Financial Contro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50040" y="958680"/>
            <a:ext cx="2735280" cy="576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d52603"/>
                </a:solidFill>
                <a:latin typeface="Times New Roman"/>
              </a:rPr>
              <a:t>Project Contro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0920" y="1628640"/>
            <a:ext cx="289080" cy="360360"/>
          </a:xfrm>
          <a:prstGeom prst="downArrow">
            <a:avLst>
              <a:gd name="adj1" fmla="val 50000"/>
              <a:gd name="adj2" fmla="val 3116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88000" y="1628640"/>
            <a:ext cx="289080" cy="360360"/>
          </a:xfrm>
          <a:prstGeom prst="downArrow">
            <a:avLst>
              <a:gd name="adj1" fmla="val 50000"/>
              <a:gd name="adj2" fmla="val 3116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14640" y="1103400"/>
            <a:ext cx="1081080" cy="287280"/>
          </a:xfrm>
          <a:prstGeom prst="leftRightArrow">
            <a:avLst>
              <a:gd name="adj1" fmla="val 50000"/>
              <a:gd name="adj2" fmla="val 7491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68360" y="1557360"/>
            <a:ext cx="8207280" cy="3384360"/>
          </a:xfrm>
          <a:prstGeom prst="rect">
            <a:avLst/>
          </a:prstGeom>
          <a:solidFill>
            <a:srgbClr val="ccff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pecific Challenges in FY2006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armonization R&amp;D Controlling between PHE and PHA (e.g. planning, reportin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 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mparability of figures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    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Ensure R&amp;D cost target 250 Mill. Euro for European R&amp;D 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Introduction and follow up of specific KPI‘s for Product Develop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(e.g. measures for productivity improvements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Further automation of R&amp;D controlling by enhancing existing controlling tools and pro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Integration of RD BA + TPM BA into one controlling group to realize synergi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nd cost impr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9600" y="23796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a0e66"/>
                </a:solidFill>
                <a:latin typeface="Arial"/>
                <a:ea typeface="文鼎中黑"/>
              </a:rPr>
              <a:t>3.    Specific Challenges in FY2006</a:t>
            </a:r>
            <a:br>
              <a:rPr sz="2400"/>
            </a:br>
            <a:r>
              <a:rPr b="0" lang="zh-TW" sz="2000" spc="-1" strike="noStrike">
                <a:solidFill>
                  <a:srgbClr val="3a0e66"/>
                </a:solidFill>
                <a:latin typeface="Arial"/>
                <a:ea typeface="文鼎中黑"/>
              </a:rPr>
              <a:t>BMG RD 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Sabine Boneberg</cp:lastModifiedBy>
  <dcterms:modified xsi:type="dcterms:W3CDTF">2006-05-24T12:53:13Z</dcterms:modified>
  <cp:revision>153</cp:revision>
  <dc:subject/>
  <dc:title>PowerPoint 簡報</dc:title>
</cp:coreProperties>
</file>